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153-C88E-4B30-B12D-99AFD731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724-2D51-4F9C-805E-EE896382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DD5-ED88-4081-8F43-769BBAB6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CE9-76C4-4C97-902D-81E626E1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19B-A9FD-425D-950B-860DD8A5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905-2064-4B7D-B334-075EE66F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C65-C2BA-4D1D-9E98-DAF839B4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514-F8D4-46CE-8458-722BE329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967-E4B4-4FCE-8A6C-4894A60C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03D-2A45-4E07-9D2D-C0E3A97F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289-0ED8-44CC-8288-FD346009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281-CB0E-45D6-919D-732B4503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A901-F14F-4CBF-B124-D893D1E3B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4 Outcome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adsheets,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T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nformation Problems Occu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ffici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in information or does not meet user’s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 on ol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TDI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representing the design of spreadsheets solutions &amp;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chart of solution, more than one sheet in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diagrams for each sheet showing data protection; type of data, labels, validation rules, drawn by hand or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charts demonstrating procedure for removing cell protection or saving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ing Data to create solutions &amp; outp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ata entry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looking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totype, (solution demonstrating functionality &amp; interface but not complete or fin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Solution &amp;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efficiency &amp; effectiveness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-6 months of implementing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information from a variety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by someone other than the deve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focus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for evalu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ecdotal 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2:12:10Z</dcterms:created>
  <dc:creator>Kelvin Baird</dc:creator>
  <dc:description/>
  <dc:language>en-US</dc:language>
  <cp:lastModifiedBy>Kelvin Baird</cp:lastModifiedBy>
  <dcterms:modified xsi:type="dcterms:W3CDTF">2007-06-20T22:23:01Z</dcterms:modified>
  <cp:revision>4</cp:revision>
  <dc:subject/>
  <dc:title>Unit 4 Outcome 1 Spreadsheets, Problem Solving</dc:title>
</cp:coreProperties>
</file>